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9025-CACC-4F1F-8EB5-CCFDB65B9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BB55-5343-4AE8-9DBC-CA28BDCEB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F24-E5B6-4D4C-BA53-0A9E42A1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00B-6645-4ED4-BD88-393E7BE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21D-C10D-4CEE-83DE-7DFB64CF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53D-6E74-4DBC-BE40-800DE5AA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FE4-E30B-4790-A4AD-DB00C623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A30-6CB1-4E5E-A0F7-A3A5422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359-4624-4CCE-8CB2-0D45DD52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70A-B7AB-4BAD-BF51-6905FD0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612-20BD-4FB9-A7F6-C86113D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56D-BFE4-4240-8157-8D54E3E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745-B073-4882-9C39-6D7C132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379-4E24-4922-BEF2-8C7A325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FC6-CC05-4B38-A19A-9623C7E45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iterature Web - Full 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066680" y="1295280"/>
            <a:ext cx="7239240" cy="4800600"/>
            <a:chOff x="1066680" y="1295280"/>
            <a:chExt cx="7239240" cy="4800600"/>
          </a:xfrm>
        </p:grpSpPr>
        <p:sp>
          <p:nvSpPr>
            <p:cNvPr id="50" name="Oval 4"/>
            <p:cNvSpPr/>
            <p:nvPr/>
          </p:nvSpPr>
          <p:spPr>
            <a:xfrm>
              <a:off x="4191120" y="2743200"/>
              <a:ext cx="1295280" cy="10666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1066680" y="1295280"/>
              <a:ext cx="2057400" cy="1600200"/>
              <a:chOff x="1066680" y="1295280"/>
              <a:chExt cx="2057400" cy="1600200"/>
            </a:xfrm>
          </p:grpSpPr>
          <p:sp>
            <p:nvSpPr>
              <p:cNvPr id="52" name="Oval 6"/>
              <p:cNvSpPr/>
              <p:nvPr/>
            </p:nvSpPr>
            <p:spPr>
              <a:xfrm>
                <a:off x="1066680" y="12952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7"/>
              <p:cNvSpPr/>
              <p:nvPr/>
            </p:nvSpPr>
            <p:spPr>
              <a:xfrm>
                <a:off x="1469160" y="1549080"/>
                <a:ext cx="119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Key Wor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 Box 8"/>
            <p:cNvSpPr/>
            <p:nvPr/>
          </p:nvSpPr>
          <p:spPr>
            <a:xfrm>
              <a:off x="4280400" y="312588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ydian BT"/>
                </a:rPr>
                <a:t>R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4800600" y="380988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V="1">
              <a:off x="5486400" y="2286000"/>
              <a:ext cx="74448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 flipH="1" flipV="1">
              <a:off x="3047760" y="2437920"/>
              <a:ext cx="1143000" cy="762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2"/>
            <p:cNvGrpSpPr/>
            <p:nvPr/>
          </p:nvGrpSpPr>
          <p:grpSpPr>
            <a:xfrm>
              <a:off x="6248520" y="1371600"/>
              <a:ext cx="2057400" cy="1600200"/>
              <a:chOff x="6248520" y="1371600"/>
              <a:chExt cx="2057400" cy="1600200"/>
            </a:xfrm>
          </p:grpSpPr>
          <p:sp>
            <p:nvSpPr>
              <p:cNvPr id="59" name="Oval 13"/>
              <p:cNvSpPr/>
              <p:nvPr/>
            </p:nvSpPr>
            <p:spPr>
              <a:xfrm>
                <a:off x="6248520" y="137160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4"/>
              <p:cNvSpPr/>
              <p:nvPr/>
            </p:nvSpPr>
            <p:spPr>
              <a:xfrm>
                <a:off x="6766200" y="1625400"/>
                <a:ext cx="96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Feeling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Line 15"/>
            <p:cNvSpPr/>
            <p:nvPr/>
          </p:nvSpPr>
          <p:spPr>
            <a:xfrm flipV="1">
              <a:off x="2971800" y="3335040"/>
              <a:ext cx="1219320" cy="7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86400" y="3429000"/>
              <a:ext cx="91440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7"/>
            <p:cNvGrpSpPr/>
            <p:nvPr/>
          </p:nvGrpSpPr>
          <p:grpSpPr>
            <a:xfrm>
              <a:off x="1143000" y="3809880"/>
              <a:ext cx="2057400" cy="1600200"/>
              <a:chOff x="1143000" y="3809880"/>
              <a:chExt cx="2057400" cy="1600200"/>
            </a:xfrm>
          </p:grpSpPr>
          <p:sp>
            <p:nvSpPr>
              <p:cNvPr id="64" name="Oval 18"/>
              <p:cNvSpPr/>
              <p:nvPr/>
            </p:nvSpPr>
            <p:spPr>
              <a:xfrm>
                <a:off x="1143000" y="38098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9"/>
              <p:cNvSpPr/>
              <p:nvPr/>
            </p:nvSpPr>
            <p:spPr>
              <a:xfrm>
                <a:off x="1795320" y="4063680"/>
                <a:ext cx="70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Ide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0"/>
            <p:cNvGrpSpPr/>
            <p:nvPr/>
          </p:nvGrpSpPr>
          <p:grpSpPr>
            <a:xfrm>
              <a:off x="3733920" y="4495680"/>
              <a:ext cx="2057400" cy="1600200"/>
              <a:chOff x="3733920" y="4495680"/>
              <a:chExt cx="2057400" cy="1600200"/>
            </a:xfrm>
          </p:grpSpPr>
          <p:sp>
            <p:nvSpPr>
              <p:cNvPr id="67" name="Oval 21"/>
              <p:cNvSpPr/>
              <p:nvPr/>
            </p:nvSpPr>
            <p:spPr>
              <a:xfrm>
                <a:off x="3733920" y="44956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22"/>
              <p:cNvSpPr/>
              <p:nvPr/>
            </p:nvSpPr>
            <p:spPr>
              <a:xfrm>
                <a:off x="4203360" y="4749480"/>
                <a:ext cx="106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Struct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6248520" y="3657600"/>
              <a:ext cx="2057400" cy="1600200"/>
              <a:chOff x="6248520" y="3657600"/>
              <a:chExt cx="2057400" cy="1600200"/>
            </a:xfrm>
          </p:grpSpPr>
          <p:sp>
            <p:nvSpPr>
              <p:cNvPr id="70" name="Oval 24"/>
              <p:cNvSpPr/>
              <p:nvPr/>
            </p:nvSpPr>
            <p:spPr>
              <a:xfrm>
                <a:off x="6248520" y="365760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5"/>
              <p:cNvSpPr/>
              <p:nvPr/>
            </p:nvSpPr>
            <p:spPr>
              <a:xfrm>
                <a:off x="6369120" y="3911400"/>
                <a:ext cx="17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Images/Symbo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36:32Z</dcterms:modified>
  <cp:revision>3</cp:revision>
  <dc:subject/>
  <dc:title>Literature Web - Full Form</dc:title>
</cp:coreProperties>
</file>